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D21AF-CA67-4430-9DBA-0B2AFE03E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C6BCB-8BF9-4F1F-BF92-6264357D4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E8E5-B22C-4036-96DD-F45F108FE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98CE-C171-47D5-BF22-98A962868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28BC-0D7B-4DC0-9420-918140886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2C25-0B46-472F-B062-F68A492FD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0E824-C516-4874-9A65-2AE43B964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48C8D-82D3-4284-98CE-F3C6EF2FD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B0EC2-E122-469D-B19C-BE3DD81FA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C88F1-7A24-4467-B113-8A2DABD0B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7C1D8-D5B0-45A4-807A-A0C4FD17E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90E48-FB17-445C-9054-832A1F942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24860-75B1-431D-B01A-1D4570A1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DC1C-6560-441F-B783-0FD24828F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D4424-6607-4F6C-B8DD-EE9FB820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AF451-1520-4C1D-9FAA-4BDF7AB3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842EA-888D-4E3E-9851-C9B07E417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B03AB-943C-4FF9-BF91-A64A68840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0CEBE-3C10-46C5-A6A0-197AC2A8D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A7C26-0504-468E-A067-C85F24E44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DF8A7-62D9-4FFD-B1B4-867F0AD47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5FB58-E663-4CED-BBD9-DF75D8669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85D33-420D-4D55-B4A1-E582825EB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6E5DC-5552-4E9D-A19C-BE0EC70AD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AD85-3235-4699-BB20-0F3A5B92B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7306B-33EF-4B05-A3FA-E59D0072D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32961-252E-461C-8764-5216E76C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6BCDE-358A-4468-BC05-C497C2AB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5FA13-71A9-4C36-AF9B-4510075E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DD277-D93E-4DEF-80D5-FB73C5512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43A98-C2EE-4215-A221-86B8A2904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8DEAD-87D4-4687-9024-DA464A346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D70BC-A4C2-40F8-AAD3-B50CF5935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45388-675D-45A3-B2C8-717FF93BA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C63A7-5896-42A6-8D09-7927387B7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4A75-DBD9-40FF-A1BD-9D0A8B909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7BD37-0DBD-4F3A-B79C-DBA6CE186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0B822-8D91-4BDF-80DB-971652637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486BE-53A6-4245-88B1-FA0D366C6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AE6BF-9BAE-4D27-9573-D8C2C1FF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9BED1-967A-4D62-8C7E-7233E418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79EF3-71B1-4FC7-8194-A32BD463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2A160-883C-4B06-9CAE-71C1A5335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8C6F8-FA00-43F0-9AD3-1FCF61730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2F108-8D7D-47C0-AFDA-8E78E47AE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4F34-C97D-42DC-AC56-DA50361FF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0DC9-029C-4262-B1C5-F3B071315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A47E-860E-4D8B-B1E0-9C62E969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A4D0-0234-4475-8BED-32D2CAD4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921E-1E4B-43EA-82C0-89955D93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42D91-C5F4-42C0-B950-32361785C2C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A4F60-20DC-4ECC-AE30-3653E3592B43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73F9D-3696-4A9A-956D-AEED9CDA886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C71DD-ECE1-4B10-9F76-9194DC5C5BB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sites.google.com/a/maine207.org/biology/u2_dna_gene/u2_videos_animations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f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160" y="2057400"/>
            <a:ext cx="76230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2d700"/>
                </a:solidFill>
                <a:latin typeface="Arial"/>
                <a:ea typeface="Arial"/>
              </a:rPr>
              <a:t>СИНТЕЗА ПРОТЕИНА- ТРАНСКРИПЦИЈА</a:t>
            </a:r>
            <a:endParaRPr b="0" lang="en-US" sz="4800" spc="-1" strike="noStrike">
              <a:solidFill>
                <a:srgbClr val="dbf5f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Content Placeholder 2" descr=""/>
          <p:cNvPicPr/>
          <p:nvPr/>
        </p:nvPicPr>
        <p:blipFill>
          <a:blip r:embed="rId1"/>
          <a:stretch/>
        </p:blipFill>
        <p:spPr>
          <a:xfrm>
            <a:off x="685800" y="2722680"/>
            <a:ext cx="3106800" cy="3396960"/>
          </a:xfrm>
          <a:prstGeom prst="rect">
            <a:avLst/>
          </a:prstGeom>
          <a:ln w="0">
            <a:noFill/>
          </a:ln>
        </p:spPr>
      </p:pic>
      <p:pic>
        <p:nvPicPr>
          <p:cNvPr id="225" name="Content Placeholder 5" descr=""/>
          <p:cNvPicPr/>
          <p:nvPr/>
        </p:nvPicPr>
        <p:blipFill>
          <a:blip r:embed="rId2"/>
          <a:stretch/>
        </p:blipFill>
        <p:spPr>
          <a:xfrm>
            <a:off x="4952880" y="2556000"/>
            <a:ext cx="3364200" cy="375588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3"/>
          <p:cNvSpPr/>
          <p:nvPr/>
        </p:nvSpPr>
        <p:spPr>
          <a:xfrm>
            <a:off x="525600" y="1104840"/>
            <a:ext cx="84661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4.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Термин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а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пом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ћу протеина терминације 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ho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фактор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б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самотермин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Новостворена иРНК није стабилна и биолошки функционалн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599840"/>
            <a:ext cx="5410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сле транскрибовања иРН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ратке секвенц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одификованих нуклеотида назване </a:t>
            </a:r>
            <a:r>
              <a:rPr b="0" i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CAP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се додају на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5’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крај помоћу 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7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mGT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ј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улогу у повезивању иРНК за рибозом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е терминације на 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’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крај иРН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специјална полимераза додаје  око 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200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нуклеотида адени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формирајући 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poly 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ре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који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ма улогу у изласку и даљој обради зреле иРНК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Eukaryotic posttranscriptional process"/>
          <p:cNvPicPr/>
          <p:nvPr/>
        </p:nvPicPr>
        <p:blipFill>
          <a:blip r:embed="rId1"/>
          <a:stretch/>
        </p:blipFill>
        <p:spPr>
          <a:xfrm>
            <a:off x="5410080" y="1676520"/>
            <a:ext cx="3733920" cy="46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sr-CS" sz="5000" spc="-1" strike="noStrike">
                <a:solidFill>
                  <a:srgbClr val="000000"/>
                </a:solidFill>
                <a:latin typeface="Arial"/>
                <a:ea typeface="Arial"/>
              </a:rPr>
              <a:t>нимација транскрипциј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https://sites.google.com/a/maine207.org/biology/u2_dna_gene/u2_videos_anima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000000"/>
                </a:solidFill>
                <a:latin typeface="Arial"/>
                <a:ea typeface="Arial"/>
              </a:rPr>
              <a:t>ТРАНСКРИПЦИЈ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6840" y="1934640"/>
            <a:ext cx="84582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Транскрипција је п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роцес преписивањ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одре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ђ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ене секвенце ДНК на РНК (иРНК, тРНК, рРНК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Одвија се </a:t>
            </a:r>
            <a:r>
              <a:rPr b="0" lang="sr-Latn-CS" sz="2600" spc="-1" strike="noStrike">
                <a:solidFill>
                  <a:srgbClr val="c00000"/>
                </a:solidFill>
                <a:latin typeface="Arial"/>
                <a:ea typeface="Arial"/>
              </a:rPr>
              <a:t>у једру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Транскрипција код еукариота  је сличн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транскрипцији код прокариот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, а разлике су следеће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Транскрипционе јединице су моноцистронске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6840" y="1934640"/>
            <a:ext cx="84582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1" descr=""/>
          <p:cNvPicPr/>
          <p:nvPr/>
        </p:nvPicPr>
        <p:blipFill>
          <a:blip r:embed="rId1"/>
          <a:stretch/>
        </p:blipFill>
        <p:spPr>
          <a:xfrm>
            <a:off x="4695840" y="2286000"/>
            <a:ext cx="4457520" cy="27576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" descr=""/>
          <p:cNvPicPr/>
          <p:nvPr/>
        </p:nvPicPr>
        <p:blipFill>
          <a:blip r:embed="rId2"/>
          <a:srcRect l="23047" t="23440" r="6640" b="7510"/>
          <a:stretch/>
        </p:blipFill>
        <p:spPr>
          <a:xfrm>
            <a:off x="114480" y="2057400"/>
            <a:ext cx="4457520" cy="32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Ген еукариота је дисконтинуиране грађе</a:t>
            </a:r>
            <a:br>
              <a:rPr sz="2600"/>
            </a:b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rcRect l="0" t="12499" r="0" b="0"/>
          <a:stretch/>
        </p:blipFill>
        <p:spPr>
          <a:xfrm>
            <a:off x="1143000" y="1876320"/>
            <a:ext cx="6443640" cy="422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80880" y="15235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Постоје три типа РНК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полимераз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4.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За почетак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транскрипције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је неопходно учешће транскрипционих фактор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5. За време транскрипције и после ње врши се процесинг (посттранскрипциона модификација РНК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Picture 8" descr=""/>
          <p:cNvPicPr/>
          <p:nvPr/>
        </p:nvPicPr>
        <p:blipFill>
          <a:blip r:embed="rId1"/>
          <a:stretch/>
        </p:blipFill>
        <p:spPr>
          <a:xfrm>
            <a:off x="1098720" y="1506600"/>
            <a:ext cx="6946560" cy="448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000" spc="-1" strike="noStrike">
                <a:solidFill>
                  <a:srgbClr val="000000"/>
                </a:solidFill>
                <a:latin typeface="Arial"/>
                <a:ea typeface="Arial"/>
              </a:rPr>
              <a:t>Ензим РНК полимераз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-360" y="2424240"/>
            <a:ext cx="487692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Тело ензима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се састоји од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четири</a:t>
            </a:r>
            <a:r>
              <a:rPr b="1" i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субјединице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l-GR" sz="2600" spc="-1" strike="noStrike">
                <a:solidFill>
                  <a:srgbClr val="000000"/>
                </a:solidFill>
                <a:latin typeface="Arial"/>
                <a:ea typeface="Arial"/>
              </a:rPr>
              <a:t>δ </a:t>
            </a:r>
            <a:r>
              <a:rPr b="1" i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фактор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а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који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је лабавом везом повезан са телом ензима и заједно чине холоензи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Content Placeholder 5" descr=""/>
          <p:cNvPicPr/>
          <p:nvPr/>
        </p:nvPicPr>
        <p:blipFill>
          <a:blip r:embed="rId1"/>
          <a:stretch/>
        </p:blipFill>
        <p:spPr>
          <a:xfrm>
            <a:off x="5105520" y="2347920"/>
            <a:ext cx="3886200" cy="1728720"/>
          </a:xfrm>
          <a:prstGeom prst="rect">
            <a:avLst/>
          </a:prstGeom>
          <a:ln w="0">
            <a:noFill/>
          </a:ln>
        </p:spPr>
      </p:pic>
      <p:pic>
        <p:nvPicPr>
          <p:cNvPr id="218" name="Content Placeholder 8" descr=""/>
          <p:cNvPicPr/>
          <p:nvPr/>
        </p:nvPicPr>
        <p:blipFill>
          <a:blip r:embed="rId2"/>
          <a:stretch/>
        </p:blipFill>
        <p:spPr>
          <a:xfrm>
            <a:off x="6324480" y="4114800"/>
            <a:ext cx="1501920" cy="15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-609480" y="31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r>
              <a:rPr b="0" lang="sr-CS" sz="5000" spc="-1" strike="noStrike">
                <a:solidFill>
                  <a:srgbClr val="000000"/>
                </a:solidFill>
                <a:latin typeface="Arial"/>
                <a:ea typeface="Arial"/>
              </a:rPr>
              <a:t>Транскрипциј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28240" y="2057400"/>
            <a:ext cx="4724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Препознавање и повезивање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РНК полимеразе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за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ромотор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Иницијациј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Picture 6" descr=""/>
          <p:cNvPicPr/>
          <p:nvPr/>
        </p:nvPicPr>
        <p:blipFill>
          <a:blip r:embed="rId1"/>
          <a:srcRect l="52709" t="10000" r="5768" b="7150"/>
          <a:stretch/>
        </p:blipFill>
        <p:spPr>
          <a:xfrm>
            <a:off x="4876920" y="1295280"/>
            <a:ext cx="3568680" cy="534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1676160" y="796680"/>
            <a:ext cx="472428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Елонгациј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6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6753240" cy="4732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11:26:11Z</dcterms:created>
  <dc:creator>Olivera</dc:creator>
  <dc:description/>
  <dc:language>en-US</dc:language>
  <cp:lastModifiedBy>Korisnik</cp:lastModifiedBy>
  <dcterms:modified xsi:type="dcterms:W3CDTF">2019-10-01T13:13:49Z</dcterms:modified>
  <cp:revision>179</cp:revision>
  <dc:subject/>
  <dc:title>2-Humani genom</dc:title>
</cp:coreProperties>
</file>